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E22-3D03-4ADC-A290-91553144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5B8-39CE-45E3-B4FB-5DC2ACC1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BCE40-868B-4DD2-9D38-B844F282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7F23E-F165-40BC-9C60-B2E330E5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17DF5-FB07-47F2-B1C0-276272EA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27CFE-BEDA-44F4-912D-8BCDF503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4F469-BB50-442D-95D6-CC3BD509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72833-04A1-4F48-B208-36E469EB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F2B0B-D581-4A12-931F-76D44700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4E744-752B-419F-A849-5978CDCA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4E23C-9261-454A-9F66-B2C3B65F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ECF08-5B35-42C9-B8BB-CA4AC9F2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DDD-696C-4256-A3AB-76C4D575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83658-863C-4A28-A2E2-DAA4F068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1E5B2-1E0D-4AD0-9D29-D108CC05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7A802-2A7B-4382-B752-7EF89663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F37AA-815F-43E9-81BC-8834A33C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4485F-F1F2-41F6-967A-2CA92906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81690-5E32-42F8-A722-87A568E4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4D104-1BAA-4B2C-BFF4-E98E0A21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3C8C4-6EE1-4EFA-AF72-7088255E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49519-F544-4DA1-8844-DC4FF712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B2C2F-243F-4066-A76B-CF8F197D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986-5A84-45B7-BD18-3C4EF859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70343-7CAE-466E-AD7B-645C6370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38157-FBDC-44B9-ACEF-23B48BD1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2AA64-E753-4665-B42B-E7BC518F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B38B3-B4BE-41D8-8AC5-C8518A05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F7D34-BB39-4153-8694-BCE461C8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F7D69-4FE3-4DC6-89E2-C0A04E70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9DB08-9FE9-4CD1-AEDF-F6EE51A5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DD35F-920D-4329-9BA7-08DAB11B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E97BA-64A7-42D3-96BA-85ABD78D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FF481-54BC-4D46-B3B4-939266D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D371-D8E1-4841-8974-3C20A166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7F798-30F6-44B2-B40E-82C343C6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A50B4-8815-4259-9B84-EF79B65C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1A7AB-46E1-4673-A4FB-3A790036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09303-8F0D-48D0-985E-FBAF3D33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6CB66-ED08-4769-9EEE-8447F33B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8F7E6-3C3D-461C-AF4E-D35B2675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1EFE0-A9F7-4EA1-B14A-846ABCCB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E9D29-0820-4C8D-AC04-2D27703E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5EEA3-EE82-4A63-B79B-2EABE526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CA3D8-A960-4099-AE64-83E9DC5D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42BE-A544-47C3-B154-BDBF891B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B0EA4-CC6D-410C-81AE-6C3B6B1C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71DAF-6A34-460A-AE02-593B9FC1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CE1F7-E804-4D35-9827-C9C502BB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50B09-F23A-4A74-9B28-B8BC1A0F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6F0ED-7923-4764-9E5B-DA5A346C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39512-9741-4DB9-A2CF-5A90F6C0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0CC93-C173-4F63-B6A7-35C142AA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DFE44-29EC-4B05-8108-C53CB79D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71F8F-2054-4B4D-9C7E-AC1D44B0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D5ED2-CDC1-4A46-B75C-03C4F754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6103-4B21-45F6-B6DE-903A8E6A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0A3E1-58EC-4258-860A-5EDBCB69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0DE85-CBEC-4FB4-BC17-49212A0A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F67B1-FE3F-4ED4-BD11-A6FB5081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7256D-07D7-4C8D-B0CC-A7CA3388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700D1-063B-47FE-BCCA-2D1C34C2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AB294-24F9-4B83-9ACE-E20B2F5C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E706F-0592-4DA8-AA99-9371A324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BF48A-C0CA-40D8-A691-4BE1AEF6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C5FB8-658A-4239-969F-E56EDF0D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9A4CB9-C300-4697-9D80-EC86ED73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37BC-BDF2-4915-ACDE-EBD6860E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8521A-0813-4B7D-BBB5-4F3501FB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206F9-7A17-4FC3-BB7E-B59DB591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B71C26-7AB2-489D-B062-26FE525C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7881F-F2D6-4B39-B579-6FCA98F3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9750E-F532-4F92-AB82-0C071E8F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4611F-8590-44AA-A0BE-C47DB85A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C6E85-8C18-4CEF-BAC6-9D3BD6FE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E7BF1-1C4A-4E73-A116-1D3A36D0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44EF7A-A845-40D5-B019-B4EE1350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7752E-3AB8-4179-86E5-F8797E5A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2C3D-6435-4A89-9CA6-FE50ACE9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305A3-FB67-4CF5-AB3A-2CB2C0DB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98526-912C-4152-8A0A-77D6900C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0440CB-8B58-4D33-8492-851DE7D3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61744C-BAEC-45FB-BFD5-27F1C650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F5D184-CB65-4B27-BB50-8F9B7C32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674703-034C-42DC-A6CD-59289277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A2965B-F10B-4ABB-AF84-33C95A00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FA50D-DEEC-42F1-B13B-42A77A98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55A3BC-A272-40D6-95F5-CCE310AF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247C55-21C4-4F4A-A92D-D8C3404D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86F5-AB4E-4C37-BEA3-A9CA9479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46E97D-7FCF-4326-99A0-D15D06D8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BA6AB-579E-4307-8FFE-D637E5FC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6CDD31-B41B-4914-B3E4-F22EB046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136CAD-56D3-4543-9C1D-D698CEED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C834A-4516-42A6-AD0B-40A0300C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16F5A3-1650-410B-A7A6-BE66A7A0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45B8B-656F-4101-88FA-159556B1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87A643-7CAA-4AFB-B19B-67DE01BC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6046DA-1826-49E5-8FEC-A0DB01BD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4604E-FB46-4535-9BCC-B468588A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5216-B40F-403C-8A36-83DE1F21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74BFB6-A146-4BD0-A105-BAB13773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415842-164B-43ED-BEC5-3E80F890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B457B-D979-4B00-A94B-D3F48B73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057062-81F6-4409-B14F-F09EEC3D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42F10-DEB8-4BAC-8FB1-5E92C73C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A5C888-1196-4844-8E0E-26E81CC2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86756B-BB69-4645-A79C-EAAE9B5F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FEE2BC-024A-4A27-BBA1-9444D32B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C92B9B-F4C7-4569-ABE5-C4823A7B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30EA59-3AC5-4F1A-9768-2EA4731E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430-F9B4-43CE-9ADE-0F5CEF60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6FCB-243D-45CD-B1EC-B58A080B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7B0D02-F225-46C3-9204-81413675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8EF10-CDCE-4488-A342-8F45C1B9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E1A8E-031C-45FF-A11C-EB84C8E6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CE12F7-FC00-4D6F-A332-4718E840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43BA9B-C89F-4AA8-BE52-6235855F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6C2BE1-A872-4BE0-9666-32535FBB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FAC972-5F5B-441C-989C-C9C15BC2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7BAE7-6BDC-4D8A-9722-7813929B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C436B1-326E-44B8-9D6E-2681CAA4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66A5CA-AC25-4A66-928D-E3CFB349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DDA1-7EBF-40A4-9249-B48DB86E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D652C7-4973-4CF1-A200-CC4CC0AB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63B4B4-82C3-43C9-870B-1DD225DE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C64A6-9A2E-4369-B39A-261BFE50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AB7EE-D574-4A61-9AD2-6620AC33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C1DF00-05ED-4E04-AB33-42EF1317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FA0DF2-4490-44C9-941A-E0871DD1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5F4CAE-0812-4EE7-99EF-A99BE5FC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FD1AAF-115D-4237-9DA8-9E18F9C9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73FEB5-9D5C-4069-A655-6E3F0EAE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85B53E-F86B-4CFF-8DF6-70955FDF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4E68-9F47-4730-AB7A-A484DFBB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4BBA27-5C6B-4628-886D-6CD73972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38306E-315B-47FF-8EEF-A4E4D159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34FBFF-0162-495C-AE09-4860CB7A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A850E0-DD54-47D8-BB32-6F2DF302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63922-4AEB-4F09-8F75-4E32F05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16A17A-A026-413E-AFE5-C3614384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F1986D-68BA-49BA-86C6-AB87878D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5B6B98-7D92-4471-8EEA-E6DAB2E8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23EFC7-5E31-4425-A05F-FBEFA713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AD3356-344B-4214-B14B-90BFA2AD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E7D0-FC71-491E-9244-C58C271B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3876A8-DCC5-4649-B5E6-3B0F7106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72EE3B-2C04-4333-9CBA-BAE4812D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129679-5C17-4521-B019-23A6A169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BF3065-D732-413B-A339-5A2AF4C5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B84EA9-1A36-4719-A401-0BC9C485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18C7AD-E716-408A-A30D-5CC99C60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900E07-48A1-46C1-9000-C6243995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81CF6F-0E20-48FF-8C02-93AB95DF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58B5CE-6D68-4957-A8F8-263AF96E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9C80AB-A034-4E30-9BBA-46332935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EB94-C7C3-4151-9C36-F4366126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CB19FD-BF78-4778-B74B-57B5AC44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84168E-A1CB-4A76-984E-85AF92FC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483C24-D293-4B4C-A326-5F39CC7A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73EE58-93FF-42F3-BCD4-9E72558B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A83CD8-868D-4732-A442-987CB0BC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AE5232-DAEF-4C15-8B8D-A74260B7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D53784-BF91-40A3-ACF9-C863CF00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361B1C-78A1-41D7-8062-D87C0DE1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50BA1-93B0-4825-A8C5-1C4471C4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24D8C4-915E-4DAC-8F3E-07674A7B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BFDF1-CB26-4A91-A3E7-ECFE1900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F3D86D-FEC1-47EA-AC7D-5AEF5550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C551C3-C3D2-4B42-A3DF-01D04749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E87C92-EFE3-475D-A7C7-65C39E73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585E9A-0083-4FE5-B14C-88112B3F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1FB1CF-7E30-49D3-A680-B7F79BDB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154141-8690-4D73-9F3E-5CC3BA25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F9CAF2-0D5B-40EB-8A01-DE20719A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026EAA-A732-4421-B884-D66D9408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D015DF-9749-4609-9861-29864ACB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212B16-FFF2-4525-B3D8-C1AD0AF0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EA712-D725-4DF8-BB68-4432F8AF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0E1BB8-4DA4-448A-9EC1-C11DF6AD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10E9F6-2505-414E-9A42-FECC31F5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C90005-822F-489A-886B-F50E072C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1C29C3-6162-484F-B5A0-485E83FF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771664-82A7-4771-9B93-121A305B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342950-9827-4264-87FB-391A7FA2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7846CE-450C-47CF-99E7-60729613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446EFA-1A11-4FFD-B88F-052249C3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5B2AD0-A1C2-414C-845F-442D7F6E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4AE89E-3BF6-4912-9CDE-228DAAFA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EE4CF-471C-4DE0-9BAD-0B2FFEAE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01905F-06E4-413C-97E6-52853E55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8FCA51-D06A-4B84-8964-43423EBD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F32AF1-CD60-475F-8F65-7FAFA425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B8FAC3-F9E5-42F8-89A2-10CF3EE4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0F024D-AF23-42F4-9D82-9D99A8CA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055C37-EC1D-4159-A869-2E5DA9AB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F8D981-CB61-4DF3-B0E0-4E30F069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5822-22A5-44E9-983E-83DB359A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5377-07A1-4A8E-96A2-E2D0A00E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1E5-2569-4A45-AFD3-6449C3F2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210E7-63B5-453A-B32C-E9040FC8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FA49-F46C-4CC7-8828-E3029C32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7EED-DD1B-4D88-93E0-CF3B78CB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479C-2ABB-4A10-8850-DD119D3D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46B95-26C2-4545-817A-997EFCB0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9BB43-614D-4271-857E-56C2CFA0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A029B-D2A1-4FC3-AA55-0A1CE21E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04177-FAD2-4B3E-AAE9-7894F756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6D4D9-1BC8-4AE1-9C3E-185A769E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C325-F132-427C-B5DB-F2B6FB1B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777-36E1-4A9E-A237-EFFFA1C3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ABDE3-D616-4FF7-8282-92D82513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30696-E628-4989-978A-221E3546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A03D0-4020-479A-8FAA-6CEECD7F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84C76-A74A-44C8-9F3B-27D7771D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8473-0577-4A89-BBAA-66BE22AB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2AE5F-A960-40E0-A38C-1FA2112B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004C1-691D-4C09-933F-F6C5DBBA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F3724-05A4-4815-B769-A57D37E2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431B3-91AE-4B05-8417-B6903B95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5D00F-BA92-4F5E-B5AB-A01BDF0B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F5F-AA6B-421B-913F-CB4120DB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5EF77-869D-4160-B3E7-981804CD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03933-3887-491A-9DFB-BDCD93A3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8F132-339F-4973-889E-EA5DEC07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C6126-5E39-4440-95BF-A32FE4DD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2FAD2-C486-4014-B503-BD2E76C9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58871-6F6F-4C2A-8FB3-508641F0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1B4B3-7CE5-423C-AA07-CEEE5736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2C8E8-B567-4587-8DDB-2C229B04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8322E-CE47-4170-AAB6-AA770F28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A79D3-FD14-4173-9FF2-BBA530AF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90B-B5FF-42BB-A444-F00BBF2D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7F9CD-D158-4DC7-A004-C97CAE67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0999B-4755-492E-9242-DB0269FE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6B373-F6B3-4B4E-87C8-8B19D91A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D92E1-292B-4646-AFA9-B80F678B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8969E-7EFF-4824-9583-94A98651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7D579-841C-43A1-8AC4-BB6A06E9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DEFB2-850A-422F-AF2B-68935B75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A0F2F-CD53-4812-9872-982F501E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0BDC4-4F3D-43A6-AD84-CD3DD9C7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8F743-17C9-4057-B491-B828EF84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1CF-1352-4416-9775-54F881FA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7D0FB-2664-4465-9BF9-833BD7E0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B5481-BF02-42D5-9232-3E04832E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7859E-7BC0-454C-AE99-8DC69AB7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3314E-FD88-4B23-98F1-7BC331E0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ACE2D-9C55-4312-8437-EF20534E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46F29-19D9-426E-90BE-EA2BA5EF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BE01F-FB48-45B1-9F08-788DCA9A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7D93B-D0FC-4EB7-8040-D267A0E9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53961-C4DA-4146-A35A-CCED9810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4D6E6-3DE8-4E2B-8220-1158AD2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865-40DE-421D-9170-991D1EE4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7BB6C-CC41-4E2C-A467-B7C95E95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B6774-1F02-4DEE-9E3B-4D74E9C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AADFE-32BC-48EE-B14C-3CA01559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9329C-EE6E-466A-827F-889FCD31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FA2F0-C86A-409B-912E-5973FB76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30BC0-1881-4302-B09D-7E263BE9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019B5-A9D1-4E43-85CC-76661B80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0824D-C6F6-4710-A2C4-C50F596A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79F6E-9789-4D4D-99DC-3ED03727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73262-A1CE-42DC-97BE-D87DC2AC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582-07B3-46AE-BBC6-4D8610B9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BF234-2184-4D84-9D11-5432E02B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EBCCA-D128-4F45-977C-0CB9BDCD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6D28F-74B5-4E45-BB91-8D7C958A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F02E6-3055-4497-9788-0A82F16A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C2B9C-0CC2-4368-A414-E50A5E56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3297F-7480-4255-9DE5-4DCD807B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FBF8C-61F6-4578-9358-F752746C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45CCD-285F-418A-8A95-5D9C0492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CE17C-7AF3-4578-9DD0-4167F475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E3577-41DF-4DD3-AB9C-72C633BE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D1E2-81F5-4BA6-81CD-AAB62230A2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65DE-FA9C-4B9C-969A-1382D8793F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66C2-3707-4A66-A415-5A1DE6D54B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A525-E790-4AB5-9FEC-1119EE3173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7050-29BB-48B9-9753-7A303FEC00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D13A-FECA-4865-B224-D138970377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7E50-B75F-4F34-8A05-E7AD9BEC78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F223-C7B2-422E-82DB-87C453FBB0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F06B-18B1-4866-A601-709283A35C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5567-B914-4980-88E6-B2F1CEBEC7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8766-DA52-4A8B-8C0E-9DAEEA88F6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A7B2-A3EC-4A14-A009-1325FB7FDE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9BF7-52B0-4D7F-8F71-97290C9955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218E-9549-49A0-8B9A-32928275B8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EDD9-EBF7-4C00-ABE2-8E58421A2C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B85B-EA9C-4AC6-8A95-EF956BCE0D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28F8-BB24-42A0-9F59-C6BA397C7D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B574-7755-4B0C-BC7A-88AF6549C8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4A0A-4594-4A6C-AD6A-7878B866E5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863D-ACBC-4AA0-9641-736768D36D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51E7-3A19-4B26-8551-E36D46C7DD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22AB-A62F-499E-91D8-097A025D27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25D2-EA7E-4909-8CA7-B3751BF97C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E71A-01F9-457E-81FC-242571F55E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93FF-5204-4E73-AECA-576BF13A3F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4DA7-7C07-4F5B-B916-A8FDFA0F9A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78A3-2218-42FA-B7D2-C20F2EEAC4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C2BA-722D-4BE6-ADC7-636E78BA06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0D35-AE41-40F3-BD65-88F3A53D80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7386-CC39-42BD-8DA0-90AEB05378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14EC-2F45-4B10-B9E3-EC9BC8CC06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992F-4455-4787-83B1-928299FD1F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2463-8B82-450B-9251-3B9D2A0ACA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00F4-3255-4413-9D69-1E111DDB6A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B491-026C-49CC-8DDA-A0BD57EBDA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3B9D-928B-4D38-85F7-8320E60A29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3C4F-316D-401F-9773-465139C19C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E9D7-6D2C-423A-9ED7-2489ACCB24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9C01-A067-4D83-A171-535E0CAC28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3FD7-8EC6-45DE-A793-79D8F31418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4BDC-F60D-4B96-84B8-C6D3B0B411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7BAC-0EFF-40DA-A86C-9EA2315BDD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843280" y="2952720"/>
            <a:ext cx="3457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214200" y="853920"/>
            <a:ext cx="8713800" cy="54961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2"/>
          <a:stretch/>
        </p:blipFill>
        <p:spPr>
          <a:xfrm>
            <a:off x="250920" y="4749840"/>
            <a:ext cx="4033800" cy="4078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3"/>
          <a:stretch/>
        </p:blipFill>
        <p:spPr>
          <a:xfrm>
            <a:off x="208080" y="5300640"/>
            <a:ext cx="8611920" cy="407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4"/>
          <a:stretch/>
        </p:blipFill>
        <p:spPr>
          <a:xfrm>
            <a:off x="250920" y="5848200"/>
            <a:ext cx="861192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147600" y="1190520"/>
            <a:ext cx="8847000" cy="44769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179280" y="1254240"/>
            <a:ext cx="8713800" cy="4078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3"/>
          <a:stretch/>
        </p:blipFill>
        <p:spPr>
          <a:xfrm>
            <a:off x="179280" y="1816200"/>
            <a:ext cx="8713800" cy="4078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179280" y="2362320"/>
            <a:ext cx="8713800" cy="4078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5"/>
          <a:stretch/>
        </p:blipFill>
        <p:spPr>
          <a:xfrm>
            <a:off x="185760" y="2908440"/>
            <a:ext cx="8713800" cy="4078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6"/>
          <a:stretch/>
        </p:blipFill>
        <p:spPr>
          <a:xfrm>
            <a:off x="185760" y="3457440"/>
            <a:ext cx="8713800" cy="408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7"/>
          <a:stretch/>
        </p:blipFill>
        <p:spPr>
          <a:xfrm>
            <a:off x="185760" y="3990960"/>
            <a:ext cx="8713800" cy="4078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8"/>
          <a:stretch/>
        </p:blipFill>
        <p:spPr>
          <a:xfrm>
            <a:off x="179280" y="4494240"/>
            <a:ext cx="8713800" cy="4078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9"/>
          <a:stretch/>
        </p:blipFill>
        <p:spPr>
          <a:xfrm>
            <a:off x="179280" y="5056200"/>
            <a:ext cx="871380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28600" y="1209600"/>
            <a:ext cx="86868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77840" y="855720"/>
            <a:ext cx="8790120" cy="56005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2"/>
          <a:stretch/>
        </p:blipFill>
        <p:spPr>
          <a:xfrm>
            <a:off x="6877080" y="5402160"/>
            <a:ext cx="2016000" cy="4082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144360" y="5946840"/>
            <a:ext cx="38512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138240" y="888840"/>
            <a:ext cx="8866080" cy="54579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2"/>
          <a:stretch/>
        </p:blipFill>
        <p:spPr>
          <a:xfrm>
            <a:off x="2195640" y="879480"/>
            <a:ext cx="1368360" cy="4078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755640" y="1441440"/>
            <a:ext cx="1368360" cy="4078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4"/>
          <a:stretch/>
        </p:blipFill>
        <p:spPr>
          <a:xfrm>
            <a:off x="7380360" y="1450800"/>
            <a:ext cx="1368360" cy="4082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5"/>
          <a:stretch/>
        </p:blipFill>
        <p:spPr>
          <a:xfrm>
            <a:off x="5133960" y="2532240"/>
            <a:ext cx="1655640" cy="4078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6"/>
          <a:stretch/>
        </p:blipFill>
        <p:spPr>
          <a:xfrm>
            <a:off x="1763640" y="3068640"/>
            <a:ext cx="1008000" cy="4078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7"/>
          <a:stretch/>
        </p:blipFill>
        <p:spPr>
          <a:xfrm>
            <a:off x="5667480" y="3083040"/>
            <a:ext cx="3419280" cy="4078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8"/>
          <a:stretch/>
        </p:blipFill>
        <p:spPr>
          <a:xfrm>
            <a:off x="266760" y="3616200"/>
            <a:ext cx="7127640" cy="4082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9"/>
          <a:stretch/>
        </p:blipFill>
        <p:spPr>
          <a:xfrm>
            <a:off x="7164360" y="5834160"/>
            <a:ext cx="100800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185760" y="1504800"/>
            <a:ext cx="8771040" cy="38484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4716360" y="1566720"/>
            <a:ext cx="1871640" cy="4082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1187280" y="2103480"/>
            <a:ext cx="5113440" cy="4078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6516720" y="2651040"/>
            <a:ext cx="1224000" cy="4082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1865160" y="3213000"/>
            <a:ext cx="2851200" cy="4082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4716360" y="3760920"/>
            <a:ext cx="165600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181080" y="1238400"/>
            <a:ext cx="878184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219240" y="1300320"/>
            <a:ext cx="870552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123840" y="1514520"/>
            <a:ext cx="88963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237960" y="985680"/>
            <a:ext cx="86680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5:5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